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Calisto MT"/>
              </a:rPr>
              <a:t>Click to move the slide</a:t>
            </a: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dt" idx="19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ftr" idx="20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 type="sldNum" idx="21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  <a:defRPr b="0" lang="fr-CH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4937D5E9-5169-49D3-BFA5-E8EDE5A89536}" type="slidenum">
              <a:rPr b="0" lang="fr-C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Espace réservé du numéro de diapositiv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37E54265-4A45-4014-9238-5BA9AA460E03}" type="slidenum">
              <a:rPr b="0" lang="fr-C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Espace réservé du numéro de diapositiv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111DDE14-3A03-4382-AA43-410DBBF05345}" type="slidenum">
              <a:rPr b="0" lang="fr-C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Espace réservé du numéro de diapositiv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F306D946-A340-44B4-B621-2786E44C96F5}" type="slidenum">
              <a:rPr b="0" lang="fr-C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Espace réservé du numéro de diapositiv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9CB8B613-00B3-4BCF-A7E3-30DCF4508962}" type="slidenum">
              <a:rPr b="0" lang="fr-C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Espace réservé du numéro de diapositiv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4EC1F7B2-2977-4287-94D3-C8F800B0879A}" type="slidenum">
              <a:rPr b="0" lang="fr-C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Espace réservé du numéro de diapositiv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799AA8EC-17B3-4B33-A787-609CC0D2AC33}" type="slidenum">
              <a:rPr b="0" lang="fr-C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Espace réservé du numéro de diapositiv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E3F70A80-C80F-45A2-B1E1-1A3C2BA2B770}" type="slidenum">
              <a:rPr b="0" lang="fr-C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Espace réservé du numéro de diapositiv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2DA052DD-874E-4629-8C18-46DB0AFC9808}" type="slidenum">
              <a:rPr b="0" lang="fr-C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Espace réservé du numéro de diapositiv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F01A2593-A0AD-4FB4-9C20-148C78EE513F}" type="slidenum">
              <a:rPr b="0" lang="fr-C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Espace réservé du numéro de diapositiv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02702D95-0FD1-4681-8E36-90219FE9DAB2}" type="slidenum">
              <a:rPr b="0" lang="fr-C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Espace réservé du numéro de diapositiv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596A3DCB-5233-4A21-8B3A-62F2963494AA}" type="slidenum">
              <a:rPr b="0" lang="fr-C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Espace réservé du numéro de diapositiv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002FF197-CE42-4D0C-A6A3-22A39843ED85}" type="slidenum">
              <a:rPr b="0" lang="fr-C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Espace réservé du numéro de diapositiv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BFAA7F39-521F-4FA0-AC1F-55B822761266}" type="slidenum">
              <a:rPr b="0" lang="fr-C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226F-B0B2-40F9-B32F-CF3009137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6120" y="3052800"/>
            <a:ext cx="844704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6120" y="4934160"/>
            <a:ext cx="844704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5134-4552-42BE-9E41-67AC6BAD4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6120" y="305280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4760" y="305280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6120" y="493416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4760" y="493416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301C-CA46-42D3-ACB2-222C6A383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6120" y="3052800"/>
            <a:ext cx="27198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72360" y="3052800"/>
            <a:ext cx="27198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8600" y="3052800"/>
            <a:ext cx="27198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6120" y="4934160"/>
            <a:ext cx="27198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72360" y="4934160"/>
            <a:ext cx="27198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8600" y="4934160"/>
            <a:ext cx="27198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332A-87EF-4E8B-8728-C0A3E3292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69BA9-6968-4CFC-B14D-0C5BBC078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16120" y="3052800"/>
            <a:ext cx="8447040" cy="36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94EBB-E005-460C-880B-8BBDAC541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16120" y="3052800"/>
            <a:ext cx="8447040" cy="360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57FF9-2CF1-4B41-9A13-6004B8750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16120" y="3052800"/>
            <a:ext cx="4122000" cy="360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44760" y="3052800"/>
            <a:ext cx="4122000" cy="360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1730E-ABB8-45D5-9D06-EA9A6B3F2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B6353-39A6-4E10-BB19-288B96BEB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3280" y="38052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009CC-819B-40D9-89BE-1D54B2605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16120" y="305280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44760" y="3052800"/>
            <a:ext cx="4122000" cy="360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16120" y="493416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D2848-6E5F-4DBB-A104-67EA68C3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6120" y="3052800"/>
            <a:ext cx="8447040" cy="36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1765-E51E-4084-8E91-0160BB192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16120" y="3052800"/>
            <a:ext cx="4122000" cy="360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44760" y="305280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44760" y="493416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E0EFE-36EB-48E5-915F-AD9ECD6C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16120" y="305280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44760" y="305280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16120" y="4934160"/>
            <a:ext cx="844704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70053-3131-4DCA-B276-85B8D9FF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16120" y="3052800"/>
            <a:ext cx="844704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16120" y="4934160"/>
            <a:ext cx="844704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83419-8199-4B96-846A-CC48BE0CA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16120" y="305280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44760" y="305280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16120" y="493416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44760" y="493416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03D88-ED79-4936-A07C-FF984739B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16120" y="3052800"/>
            <a:ext cx="27198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72360" y="3052800"/>
            <a:ext cx="27198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8600" y="3052800"/>
            <a:ext cx="27198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16120" y="4934160"/>
            <a:ext cx="27198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72360" y="4934160"/>
            <a:ext cx="27198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8600" y="4934160"/>
            <a:ext cx="27198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6C6D2-CC66-4A42-A1D6-783308A64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57648-980A-4877-9274-EBDFF38DB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16120" y="3052800"/>
            <a:ext cx="8447040" cy="36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134F2-406F-48A0-A964-846B63842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16120" y="3052800"/>
            <a:ext cx="8447040" cy="360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D9AA6-79D4-4C6D-9559-3638B3030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16120" y="3052800"/>
            <a:ext cx="4122000" cy="360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44760" y="3052800"/>
            <a:ext cx="4122000" cy="360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E2645-AAEB-4025-BC8A-852F9F5D4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75EE7-6962-4DD7-B54D-392E6DAD3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6120" y="3052800"/>
            <a:ext cx="8447040" cy="360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CCF0-EEE4-40AC-BCE7-28F292B24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503280" y="38052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E2F5B-9BE5-4ADC-BB5E-9B7C48F47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16120" y="305280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44760" y="3052800"/>
            <a:ext cx="4122000" cy="360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16120" y="493416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6300F-BAAB-4000-A0A9-105269C9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16120" y="3052800"/>
            <a:ext cx="4122000" cy="360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44760" y="305280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144760" y="493416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12212-62C7-45FD-8CA8-E3CF3C7D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16120" y="305280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44760" y="305280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16120" y="4934160"/>
            <a:ext cx="844704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BCCC4-A838-46F2-B937-131861B6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16120" y="3052800"/>
            <a:ext cx="844704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816120" y="4934160"/>
            <a:ext cx="844704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1E7F4-7DBB-4F70-9304-7B839F112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16120" y="305280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44760" y="305280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16120" y="493416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144760" y="493416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4A7B8-D55B-45F4-8995-F46513A85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16120" y="3052800"/>
            <a:ext cx="27198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672360" y="3052800"/>
            <a:ext cx="27198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528600" y="3052800"/>
            <a:ext cx="27198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816120" y="4934160"/>
            <a:ext cx="27198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672360" y="4934160"/>
            <a:ext cx="27198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528600" y="4934160"/>
            <a:ext cx="27198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AEE5B-FD4A-4530-8733-CB0321CC0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8BE3B-B668-4572-BDF7-A3DF85BD4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16120" y="3052800"/>
            <a:ext cx="8447040" cy="36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1371B-8DFF-4EBE-91FE-F9BC7DF05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16120" y="3052800"/>
            <a:ext cx="8447040" cy="360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8CA46-AE27-48B0-A3AE-5C5D23C28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6120" y="3052800"/>
            <a:ext cx="4122000" cy="360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4760" y="3052800"/>
            <a:ext cx="4122000" cy="360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AB1C-81A4-4992-B8D7-E18CEB017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16120" y="3052800"/>
            <a:ext cx="4122000" cy="360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44760" y="3052800"/>
            <a:ext cx="4122000" cy="360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231BE-0EC7-4A38-97C5-A952647B1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23A50-919D-47E2-B8C7-3C96F3D6C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503280" y="38052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AE8F7-7E30-4815-9321-6BCED0E3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16120" y="305280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44760" y="3052800"/>
            <a:ext cx="4122000" cy="360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816120" y="493416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D275A-ED96-46FB-A80D-009ADC35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16120" y="3052800"/>
            <a:ext cx="4122000" cy="360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44760" y="305280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144760" y="493416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66F04-A6C4-494C-B15B-71DDE09C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16120" y="305280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144760" y="305280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816120" y="4934160"/>
            <a:ext cx="844704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271EF-EE84-467C-9C4D-BA999A96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16120" y="3052800"/>
            <a:ext cx="844704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816120" y="4934160"/>
            <a:ext cx="844704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3780D-A9F8-4C56-A5D4-E988D27D0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16120" y="305280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44760" y="305280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16120" y="493416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144760" y="493416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E263D-3C18-4CFC-AEBB-96C1B7458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16120" y="3052800"/>
            <a:ext cx="27198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672360" y="3052800"/>
            <a:ext cx="27198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528600" y="3052800"/>
            <a:ext cx="27198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816120" y="4934160"/>
            <a:ext cx="27198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672360" y="4934160"/>
            <a:ext cx="27198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528600" y="4934160"/>
            <a:ext cx="27198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513BE-55D7-4978-8BF7-3707071CF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6D78A-ACFA-49E3-A9CB-0EAD4AAF0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D908-FAE5-4365-9E66-DFA0E7707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16120" y="3052800"/>
            <a:ext cx="8447040" cy="36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92FC9-F3FF-479C-8DDF-37D9B2DAC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16120" y="3052800"/>
            <a:ext cx="8447040" cy="360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63F19-020F-4040-A696-2FA933E8D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16120" y="3052800"/>
            <a:ext cx="4122000" cy="360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44760" y="3052800"/>
            <a:ext cx="4122000" cy="360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5DC6A-0834-4470-830B-3780E613E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A568D-E3AC-4C2F-846E-AB05D6237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503280" y="38052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E5B8C-4A64-40DF-8FBB-C332A0B23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16120" y="305280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44760" y="3052800"/>
            <a:ext cx="4122000" cy="360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16120" y="493416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819B5-3837-4975-9ACF-AFF0BAF4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16120" y="3052800"/>
            <a:ext cx="4122000" cy="360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144760" y="305280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144760" y="493416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DAA9E-E0DC-4081-BD64-AECF2019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16120" y="305280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144760" y="305280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16120" y="4934160"/>
            <a:ext cx="844704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F7680-F40D-49BF-8DE7-F19881B1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16120" y="3052800"/>
            <a:ext cx="844704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16120" y="4934160"/>
            <a:ext cx="844704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30DBE-41FA-4D21-A614-0BEC45B4D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16120" y="305280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144760" y="305280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16120" y="493416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5144760" y="493416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A0ED0-C154-4D19-A885-9D192B504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8052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4FDC-25FB-4A12-BD71-7980A7B47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16120" y="3052800"/>
            <a:ext cx="27198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672360" y="3052800"/>
            <a:ext cx="27198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528600" y="3052800"/>
            <a:ext cx="27198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16120" y="4934160"/>
            <a:ext cx="27198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672360" y="4934160"/>
            <a:ext cx="27198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528600" y="4934160"/>
            <a:ext cx="27198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C3AF4-E028-4D5E-9187-A14960C10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4C55D0-63D0-41CD-BFD8-AD1714B7C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816120" y="3052800"/>
            <a:ext cx="8447040" cy="36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BF2DF-DD15-4A74-AA5A-544D5DA9B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16120" y="3052800"/>
            <a:ext cx="8447040" cy="360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7E786-01B6-4F28-B78E-1E3510B89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16120" y="3052800"/>
            <a:ext cx="4122000" cy="360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44760" y="3052800"/>
            <a:ext cx="4122000" cy="360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0B591-CDAD-4C81-BA31-D2EF1A0C1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C5BE0-240C-41C6-8547-69467C537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503280" y="38052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60426C-635A-4754-AFAC-B8CA3688A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16120" y="305280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144760" y="3052800"/>
            <a:ext cx="4122000" cy="360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816120" y="493416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58487A-8703-44D9-A320-DC30A720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16120" y="3052800"/>
            <a:ext cx="4122000" cy="360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144760" y="305280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144760" y="493416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69B3A-9886-42E5-A99C-0169208F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16120" y="305280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144760" y="305280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816120" y="4934160"/>
            <a:ext cx="844704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3F681A-5638-4053-9156-31AD4CF8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6120" y="305280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4760" y="3052800"/>
            <a:ext cx="4122000" cy="360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6120" y="493416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70E4-AF78-4806-A87E-588309D1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16120" y="3052800"/>
            <a:ext cx="844704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816120" y="4934160"/>
            <a:ext cx="844704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FD99F1-10A1-4854-8F9F-DF0DA97C1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16120" y="305280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144760" y="305280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816120" y="493416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5144760" y="493416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FAC6DE-38B9-4C5A-92ED-D88D6584C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16120" y="3052800"/>
            <a:ext cx="27198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672360" y="3052800"/>
            <a:ext cx="27198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528600" y="3052800"/>
            <a:ext cx="27198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816120" y="4934160"/>
            <a:ext cx="27198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672360" y="4934160"/>
            <a:ext cx="27198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528600" y="4934160"/>
            <a:ext cx="27198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763BE-715A-413F-BC6D-176F06D24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6120" y="3052800"/>
            <a:ext cx="4122000" cy="360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4760" y="305280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4760" y="493416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61C5-37D6-4326-BF40-3AD123BA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6120" y="305280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4760" y="3052800"/>
            <a:ext cx="412200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6120" y="4934160"/>
            <a:ext cx="8447040" cy="171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CB6D-4188-4F1A-AE64-AD0C86FF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6120" y="3052800"/>
            <a:ext cx="8447040" cy="360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82000"/>
          </a:bodyPr>
          <a:p>
            <a:pPr marL="309960" indent="-309960">
              <a:spcBef>
                <a:spcPts val="2200"/>
              </a:spcBef>
              <a:buClr>
                <a:srgbClr val="4f81bd"/>
              </a:buClr>
              <a:buSzPct val="90000"/>
              <a:buFont typeface="Wingdings" charset="2"/>
              <a:buChar char="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1" marL="619560" indent="-303120">
              <a:spcBef>
                <a:spcPts val="2200"/>
              </a:spcBef>
              <a:buClr>
                <a:srgbClr val="95b3d7"/>
              </a:buClr>
              <a:buSzPct val="90000"/>
              <a:buFont typeface="Wingdings" charset="2"/>
              <a:buChar char="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2" marL="934560" indent="-314640">
              <a:spcBef>
                <a:spcPts val="2200"/>
              </a:spcBef>
              <a:buClr>
                <a:srgbClr val="4f81bd"/>
              </a:buClr>
              <a:buSzPct val="90000"/>
              <a:buFont typeface="Wingdings" charset="2"/>
              <a:buChar char="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3" marL="1239120" indent="-303120">
              <a:spcBef>
                <a:spcPts val="2200"/>
              </a:spcBef>
              <a:buClr>
                <a:srgbClr val="95b3d7"/>
              </a:buClr>
              <a:buSzPct val="90000"/>
              <a:buFont typeface="Wingdings" charset="2"/>
              <a:buChar char="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4" marL="1554120" indent="-314640">
              <a:spcBef>
                <a:spcPts val="2200"/>
              </a:spcBef>
              <a:buClr>
                <a:srgbClr val="4f81bd"/>
              </a:buClr>
              <a:buSzPct val="90000"/>
              <a:buFont typeface="Wingdings" charset="2"/>
              <a:buChar char="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5" marL="1554120" indent="-314640">
              <a:spcBef>
                <a:spcPts val="2200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6" marL="1554120" indent="-314640">
              <a:spcBef>
                <a:spcPts val="2200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38316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46600" y="7007040"/>
            <a:ext cx="58752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1" lang="fr-CH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0BB6F45E-BB6F-478F-847D-1B59820B287E}" type="slidenum">
              <a:rPr b="1" lang="fr-CH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7"/>
          <p:cNvSpPr/>
          <p:nvPr/>
        </p:nvSpPr>
        <p:spPr>
          <a:xfrm>
            <a:off x="9232560" y="6399360"/>
            <a:ext cx="227880" cy="6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fr-FR" sz="4900" spc="-1" strike="noStrike">
                <a:solidFill>
                  <a:srgbClr val="4f81bd"/>
                </a:solidFill>
                <a:latin typeface="Wingdings"/>
                <a:ea typeface="Wingdings"/>
              </a:rPr>
              <a:t>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16120" y="3052800"/>
            <a:ext cx="8447040" cy="360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82000"/>
          </a:bodyPr>
          <a:p>
            <a:pPr marL="309960" indent="-309960">
              <a:spcBef>
                <a:spcPts val="2200"/>
              </a:spcBef>
              <a:buClr>
                <a:srgbClr val="4f81bd"/>
              </a:buClr>
              <a:buSzPct val="90000"/>
              <a:buFont typeface="Wingdings" charset="2"/>
              <a:buChar char="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1" marL="619560" indent="-303120">
              <a:spcBef>
                <a:spcPts val="2200"/>
              </a:spcBef>
              <a:buClr>
                <a:srgbClr val="95b3d7"/>
              </a:buClr>
              <a:buSzPct val="90000"/>
              <a:buFont typeface="Wingdings" charset="2"/>
              <a:buChar char="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2" marL="934560" indent="-314640">
              <a:spcBef>
                <a:spcPts val="2200"/>
              </a:spcBef>
              <a:buClr>
                <a:srgbClr val="4f81bd"/>
              </a:buClr>
              <a:buSzPct val="90000"/>
              <a:buFont typeface="Wingdings" charset="2"/>
              <a:buChar char="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3" marL="1239120" indent="-303120">
              <a:spcBef>
                <a:spcPts val="2200"/>
              </a:spcBef>
              <a:buClr>
                <a:srgbClr val="95b3d7"/>
              </a:buClr>
              <a:buSzPct val="90000"/>
              <a:buFont typeface="Wingdings" charset="2"/>
              <a:buChar char="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4" marL="1554120" indent="-314640">
              <a:spcBef>
                <a:spcPts val="2200"/>
              </a:spcBef>
              <a:buClr>
                <a:srgbClr val="4f81bd"/>
              </a:buClr>
              <a:buSzPct val="90000"/>
              <a:buFont typeface="Wingdings" charset="2"/>
              <a:buChar char="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5" marL="1554120" indent="-314640">
              <a:spcBef>
                <a:spcPts val="2200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6" marL="1554120" indent="-314640">
              <a:spcBef>
                <a:spcPts val="2200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1" lang="en-US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0AACB86B-C04B-489E-B8AC-B71F334C9CA5}" type="datetime3">
              <a:rPr b="1" lang="en-US" sz="1200" spc="-1" strike="noStrike">
                <a:solidFill>
                  <a:srgbClr val="7f7f7f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638316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4746600" y="7007040"/>
            <a:ext cx="58752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1" lang="en-US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9C58964D-5ADA-4B3A-9BCA-06193AF0F49F}" type="slidenum">
              <a:rPr b="1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7"/>
          <p:cNvSpPr/>
          <p:nvPr/>
        </p:nvSpPr>
        <p:spPr>
          <a:xfrm>
            <a:off x="9232560" y="6399360"/>
            <a:ext cx="227880" cy="6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fr-FR" sz="4900" spc="-1" strike="noStrike">
                <a:solidFill>
                  <a:srgbClr val="4f81bd"/>
                </a:solidFill>
                <a:latin typeface="Wingdings"/>
                <a:ea typeface="Wingdings"/>
              </a:rPr>
              <a:t>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816120" y="3052800"/>
            <a:ext cx="8447040" cy="360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82000"/>
          </a:bodyPr>
          <a:p>
            <a:pPr marL="309960" indent="-309960">
              <a:spcBef>
                <a:spcPts val="2200"/>
              </a:spcBef>
              <a:buClr>
                <a:srgbClr val="4f81bd"/>
              </a:buClr>
              <a:buSzPct val="90000"/>
              <a:buFont typeface="Wingdings" charset="2"/>
              <a:buChar char="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1" marL="619560" indent="-303120">
              <a:spcBef>
                <a:spcPts val="2200"/>
              </a:spcBef>
              <a:buClr>
                <a:srgbClr val="95b3d7"/>
              </a:buClr>
              <a:buSzPct val="90000"/>
              <a:buFont typeface="Wingdings" charset="2"/>
              <a:buChar char="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2" marL="934560" indent="-314640">
              <a:spcBef>
                <a:spcPts val="2200"/>
              </a:spcBef>
              <a:buClr>
                <a:srgbClr val="4f81bd"/>
              </a:buClr>
              <a:buSzPct val="90000"/>
              <a:buFont typeface="Wingdings" charset="2"/>
              <a:buChar char="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3" marL="1239120" indent="-303120">
              <a:spcBef>
                <a:spcPts val="2200"/>
              </a:spcBef>
              <a:buClr>
                <a:srgbClr val="95b3d7"/>
              </a:buClr>
              <a:buSzPct val="90000"/>
              <a:buFont typeface="Wingdings" charset="2"/>
              <a:buChar char="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4" marL="1554120" indent="-314640">
              <a:spcBef>
                <a:spcPts val="2200"/>
              </a:spcBef>
              <a:buClr>
                <a:srgbClr val="4f81bd"/>
              </a:buClr>
              <a:buSzPct val="90000"/>
              <a:buFont typeface="Wingdings" charset="2"/>
              <a:buChar char="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5" marL="1554120" indent="-314640">
              <a:spcBef>
                <a:spcPts val="2200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6" marL="1554120" indent="-314640">
              <a:spcBef>
                <a:spcPts val="2200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A686C911-047E-4473-A907-DA337C7E4E44}" type="datetime3">
              <a:rPr b="1" lang="en-US" sz="1200" spc="-1" strike="noStrike">
                <a:solidFill>
                  <a:srgbClr val="ffffff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7980120" y="7007040"/>
            <a:ext cx="159372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4746600" y="7007040"/>
            <a:ext cx="58752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4262EBCF-A273-434A-A63E-24A40E41E5D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16120" y="3052800"/>
            <a:ext cx="8447040" cy="360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82000"/>
          </a:bodyPr>
          <a:p>
            <a:pPr marL="309960" indent="-309960">
              <a:spcBef>
                <a:spcPts val="2200"/>
              </a:spcBef>
              <a:buClr>
                <a:srgbClr val="4f81bd"/>
              </a:buClr>
              <a:buSzPct val="90000"/>
              <a:buFont typeface="Wingdings" charset="2"/>
              <a:buChar char="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1" marL="619560" indent="-303120">
              <a:spcBef>
                <a:spcPts val="2200"/>
              </a:spcBef>
              <a:buClr>
                <a:srgbClr val="95b3d7"/>
              </a:buClr>
              <a:buSzPct val="90000"/>
              <a:buFont typeface="Wingdings" charset="2"/>
              <a:buChar char="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2" marL="934560" indent="-314640">
              <a:spcBef>
                <a:spcPts val="2200"/>
              </a:spcBef>
              <a:buClr>
                <a:srgbClr val="4f81bd"/>
              </a:buClr>
              <a:buSzPct val="90000"/>
              <a:buFont typeface="Wingdings" charset="2"/>
              <a:buChar char="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3" marL="1239120" indent="-303120">
              <a:spcBef>
                <a:spcPts val="2200"/>
              </a:spcBef>
              <a:buClr>
                <a:srgbClr val="95b3d7"/>
              </a:buClr>
              <a:buSzPct val="90000"/>
              <a:buFont typeface="Wingdings" charset="2"/>
              <a:buChar char="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4" marL="1554120" indent="-314640">
              <a:spcBef>
                <a:spcPts val="2200"/>
              </a:spcBef>
              <a:buClr>
                <a:srgbClr val="4f81bd"/>
              </a:buClr>
              <a:buSzPct val="90000"/>
              <a:buFont typeface="Wingdings" charset="2"/>
              <a:buChar char="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5" marL="1554120" indent="-314640">
              <a:spcBef>
                <a:spcPts val="2200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6" marL="1554120" indent="-314640">
              <a:spcBef>
                <a:spcPts val="2200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638316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4746600" y="7007040"/>
            <a:ext cx="58752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1" lang="en-US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689A3533-D31D-49E7-B081-8EC26D81A17D}" type="slidenum">
              <a:rPr b="1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816120" y="3052800"/>
            <a:ext cx="8447040" cy="360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82000"/>
          </a:bodyPr>
          <a:p>
            <a:pPr marL="309960" indent="-309960">
              <a:spcBef>
                <a:spcPts val="2200"/>
              </a:spcBef>
              <a:buClr>
                <a:srgbClr val="4f81bd"/>
              </a:buClr>
              <a:buSzPct val="90000"/>
              <a:buFont typeface="Wingdings" charset="2"/>
              <a:buChar char="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1" marL="619560" indent="-303120">
              <a:spcBef>
                <a:spcPts val="2200"/>
              </a:spcBef>
              <a:buClr>
                <a:srgbClr val="95b3d7"/>
              </a:buClr>
              <a:buSzPct val="90000"/>
              <a:buFont typeface="Wingdings" charset="2"/>
              <a:buChar char="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2" marL="934560" indent="-314640">
              <a:spcBef>
                <a:spcPts val="2200"/>
              </a:spcBef>
              <a:buClr>
                <a:srgbClr val="4f81bd"/>
              </a:buClr>
              <a:buSzPct val="90000"/>
              <a:buFont typeface="Wingdings" charset="2"/>
              <a:buChar char="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3" marL="1239120" indent="-303120">
              <a:spcBef>
                <a:spcPts val="2200"/>
              </a:spcBef>
              <a:buClr>
                <a:srgbClr val="95b3d7"/>
              </a:buClr>
              <a:buSzPct val="90000"/>
              <a:buFont typeface="Wingdings" charset="2"/>
              <a:buChar char="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4" marL="1554120" indent="-314640">
              <a:spcBef>
                <a:spcPts val="2200"/>
              </a:spcBef>
              <a:buClr>
                <a:srgbClr val="4f81bd"/>
              </a:buClr>
              <a:buSzPct val="90000"/>
              <a:buFont typeface="Wingdings" charset="2"/>
              <a:buChar char="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5" marL="1554120" indent="-314640">
              <a:spcBef>
                <a:spcPts val="2200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6" marL="1554120" indent="-314640">
              <a:spcBef>
                <a:spcPts val="2200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638316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4746600" y="7007040"/>
            <a:ext cx="58752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1" lang="fr-CH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EE0D8FE3-4D29-4C72-9154-9563BA96AA35}" type="slidenum">
              <a:rPr b="1" lang="fr-CH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3805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816120" y="3052800"/>
            <a:ext cx="8447040" cy="360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82000"/>
          </a:bodyPr>
          <a:p>
            <a:pPr marL="309960" indent="-309960">
              <a:spcBef>
                <a:spcPts val="2200"/>
              </a:spcBef>
              <a:buClr>
                <a:srgbClr val="4f81bd"/>
              </a:buClr>
              <a:buSzPct val="90000"/>
              <a:buFont typeface="Wingdings" charset="2"/>
              <a:buChar char="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1" marL="619560" indent="-303120">
              <a:spcBef>
                <a:spcPts val="2200"/>
              </a:spcBef>
              <a:buClr>
                <a:srgbClr val="95b3d7"/>
              </a:buClr>
              <a:buSzPct val="90000"/>
              <a:buFont typeface="Wingdings" charset="2"/>
              <a:buChar char="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2" marL="934560" indent="-314640">
              <a:spcBef>
                <a:spcPts val="2200"/>
              </a:spcBef>
              <a:buClr>
                <a:srgbClr val="4f81bd"/>
              </a:buClr>
              <a:buSzPct val="90000"/>
              <a:buFont typeface="Wingdings" charset="2"/>
              <a:buChar char="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3" marL="1239120" indent="-303120">
              <a:spcBef>
                <a:spcPts val="2200"/>
              </a:spcBef>
              <a:buClr>
                <a:srgbClr val="95b3d7"/>
              </a:buClr>
              <a:buSzPct val="90000"/>
              <a:buFont typeface="Wingdings" charset="2"/>
              <a:buChar char="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4" marL="1554120" indent="-314640">
              <a:spcBef>
                <a:spcPts val="2200"/>
              </a:spcBef>
              <a:buClr>
                <a:srgbClr val="4f81bd"/>
              </a:buClr>
              <a:buSzPct val="90000"/>
              <a:buFont typeface="Wingdings" charset="2"/>
              <a:buChar char="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5" marL="1554120" indent="-314640">
              <a:spcBef>
                <a:spcPts val="2200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6" marL="1554120" indent="-314640">
              <a:spcBef>
                <a:spcPts val="2200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638316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4746600" y="7007040"/>
            <a:ext cx="58752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1" lang="fr-CH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C7C981E9-F2A7-475D-90E7-D7A717A017A2}" type="slidenum">
              <a:rPr b="1" lang="fr-CH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19280" y="466200"/>
            <a:ext cx="8534160" cy="111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0" lang="fr-CH" sz="2300" spc="-1" strike="noStrike">
                <a:solidFill>
                  <a:srgbClr val="ffffff"/>
                </a:solidFill>
                <a:latin typeface="Arial"/>
                <a:ea typeface="Arial"/>
              </a:rPr>
              <a:t>Solving Biological Problems that require Math</a:t>
            </a:r>
            <a:br>
              <a:rPr sz="2900"/>
            </a:br>
            <a:r>
              <a:rPr b="1" lang="fr-CH" sz="2900" spc="-1" strike="noStrike">
                <a:solidFill>
                  <a:srgbClr val="ffffff"/>
                </a:solidFill>
                <a:latin typeface="Arial"/>
                <a:ea typeface="Arial"/>
              </a:rPr>
              <a:t>Gradient Formation for the Cell Size in Fission Yeast</a:t>
            </a: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44000" y="2339640"/>
            <a:ext cx="3635640" cy="4491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0" bIns="50400" anchor="t">
            <a:normAutofit/>
          </a:bodyPr>
          <a:p>
            <a:pPr algn="ctr">
              <a:lnSpc>
                <a:spcPct val="102000"/>
              </a:lnSpc>
              <a:spcBef>
                <a:spcPts val="22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Mentor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algn="ctr">
              <a:lnSpc>
                <a:spcPct val="102000"/>
              </a:lnSpc>
              <a:spcBef>
                <a:spcPts val="22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Sascha Dalessi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algn="ctr">
              <a:lnSpc>
                <a:spcPct val="102000"/>
              </a:lnSpc>
              <a:spcBef>
                <a:spcPts val="22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Students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algn="ctr">
              <a:lnSpc>
                <a:spcPct val="102000"/>
              </a:lnSpc>
              <a:spcBef>
                <a:spcPts val="22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Johan Merçay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algn="ctr">
              <a:lnSpc>
                <a:spcPct val="102000"/>
              </a:lnSpc>
              <a:spcBef>
                <a:spcPts val="22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Fabien Delapierre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algn="ctr">
              <a:lnSpc>
                <a:spcPct val="102000"/>
              </a:lnSpc>
              <a:spcBef>
                <a:spcPts val="22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Lucas Degrugillier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algn="ctr">
              <a:lnSpc>
                <a:spcPct val="102000"/>
              </a:lnSpc>
              <a:spcBef>
                <a:spcPts val="2200"/>
              </a:spcBef>
              <a:buClr>
                <a:srgbClr val="4f81bd"/>
              </a:buClr>
              <a:buSzPct val="90000"/>
              <a:buFont typeface="Wingdings" charset="2"/>
              <a:buChar char="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3959280" y="2519280"/>
            <a:ext cx="5759280" cy="360036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4"/>
          <p:cNvSpPr/>
          <p:nvPr/>
        </p:nvSpPr>
        <p:spPr>
          <a:xfrm>
            <a:off x="3959280" y="6267600"/>
            <a:ext cx="575928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fr-CH" sz="1500" spc="-1" strike="noStrike">
                <a:solidFill>
                  <a:srgbClr val="000000"/>
                </a:solidFill>
                <a:latin typeface="Arial"/>
              </a:rPr>
              <a:t>Olivier Hachet, DMF, UNI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719280" y="1692360"/>
            <a:ext cx="90709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Coordinated by </a:t>
            </a: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Sven Bergman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108000"/>
            <a:ext cx="10080720" cy="79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2808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Arial"/>
                <a:ea typeface="Arial"/>
              </a:rPr>
              <a:t>Un cas simple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502920" y="1767960"/>
            <a:ext cx="9070920" cy="10106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23040" bIns="50400" anchor="t">
            <a:normAutofit/>
          </a:bodyPr>
          <a:p>
            <a:pPr marL="430200" indent="-322200"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45000"/>
              <a:buFont typeface="Wingdings" charset="2"/>
              <a:buChar char="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À l'équilibre  :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430200" indent="-322200"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45000"/>
              <a:buFont typeface="Wingdings" charset="2"/>
              <a:buChar char="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Source en un point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430200" indent="-32220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→  </a:t>
            </a: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équation à résoudre :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430200" indent="-322200"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90000"/>
              <a:buFont typeface="Wingdings" charset="2"/>
              <a:buChar char="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430200" indent="-32220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Equation différentiel ordinaire (ODE)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430200" indent="-322200"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45000"/>
              <a:buFont typeface="Wingdings" charset="2"/>
              <a:buChar char="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On résout l'équation juste après la source →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430200" indent="-32220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Equation différentielle homogène d'ordre deux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430200" indent="-32220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Solutions sous la forme : 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430200" indent="-322200"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90000"/>
              <a:buFont typeface="Wingdings" charset="2"/>
              <a:buChar char="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430200" indent="-322200"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90000"/>
              <a:buFont typeface="Wingdings" charset="2"/>
              <a:buChar char="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430200" indent="-322200"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90000"/>
              <a:buFont typeface="Wingdings" charset="2"/>
              <a:buChar char="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430200" indent="-322200"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90000"/>
              <a:buFont typeface="Wingdings" charset="2"/>
              <a:buChar char="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430200" indent="-322200"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90000"/>
              <a:buFont typeface="Wingdings" charset="2"/>
              <a:buChar char="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430200" indent="-322200"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45000"/>
              <a:buFont typeface="Wingdings" charset="2"/>
              <a:buChar char="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430200" indent="-322200"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90000"/>
              <a:buFont typeface="Wingdings" charset="2"/>
              <a:buChar char="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430200" indent="-322200"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90000"/>
              <a:buFont typeface="Wingdings" charset="2"/>
              <a:buChar char="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430200" indent="-322200"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90000"/>
              <a:buFont typeface="Wingdings" charset="2"/>
              <a:buChar char="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430200" indent="-322200"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45000"/>
              <a:buFont typeface="Wingdings" charset="2"/>
              <a:buChar char="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Object 3"/>
              <p:cNvSpPr txBox="1"/>
              <p:nvPr/>
            </p:nvSpPr>
            <p:spPr>
              <a:xfrm>
                <a:off x="3168720" y="1763640"/>
                <a:ext cx="164628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5"/>
              <p:cNvSpPr txBox="1"/>
              <p:nvPr/>
            </p:nvSpPr>
            <p:spPr>
              <a:xfrm>
                <a:off x="7632720" y="5292720"/>
                <a:ext cx="10000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4824360" y="6372360"/>
                <a:ext cx="2886120" cy="56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e</m:t>
                        </m:r>
                      </m:sub>
                      <m:sup>
                        <m:r>
                          <m:t xml:space="preserve">x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D</m:t>
                                </m:r>
                              </m:den>
                            </m:f>
                          </m:e>
                        </m:rad>
                      </m:sup>
                    </m:sSubSup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e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x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D</m:t>
                                </m:r>
                              </m:den>
                            </m:f>
                          </m:e>
                        </m:rad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4"/>
              <p:cNvSpPr txBox="1"/>
              <p:nvPr/>
            </p:nvSpPr>
            <p:spPr>
              <a:xfrm>
                <a:off x="4535640" y="3059280"/>
                <a:ext cx="331920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D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α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250920"/>
            <a:ext cx="10080720" cy="576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2808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Arial"/>
                <a:ea typeface="Arial"/>
              </a:rPr>
              <a:t>Un cas simple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298" name="Picture 2" descr=""/>
          <p:cNvPicPr/>
          <p:nvPr/>
        </p:nvPicPr>
        <p:blipFill>
          <a:blip r:embed="rId1"/>
          <a:stretch/>
        </p:blipFill>
        <p:spPr>
          <a:xfrm>
            <a:off x="539640" y="2879640"/>
            <a:ext cx="5040360" cy="3359160"/>
          </a:xfrm>
          <a:prstGeom prst="rect">
            <a:avLst/>
          </a:prstGeom>
          <a:ln w="0">
            <a:noFill/>
          </a:ln>
        </p:spPr>
      </p:pic>
      <p:sp>
        <p:nvSpPr>
          <p:cNvPr id="299" name="Line 3"/>
          <p:cNvSpPr/>
          <p:nvPr/>
        </p:nvSpPr>
        <p:spPr>
          <a:xfrm flipH="1">
            <a:off x="753840" y="2879640"/>
            <a:ext cx="866520" cy="395280"/>
          </a:xfrm>
          <a:prstGeom prst="line">
            <a:avLst/>
          </a:prstGeom>
          <a:ln w="9360">
            <a:solidFill>
              <a:srgbClr val="dc2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Object 4"/>
              <p:cNvSpPr txBox="1"/>
              <p:nvPr/>
            </p:nvSpPr>
            <p:spPr>
              <a:xfrm>
                <a:off x="1440000" y="2376360"/>
                <a:ext cx="270324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ère</m:t>
                        </m:r>
                      </m:sup>
                    </m:sSup>
                    <m:r>
                      <m:t xml:space="preserve">condition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J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S</m:t>
                        </m:r>
                        <m:r>
                          <m:t xml:space="preserve">0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1" name="Text Box 5"/>
          <p:cNvSpPr/>
          <p:nvPr/>
        </p:nvSpPr>
        <p:spPr>
          <a:xfrm>
            <a:off x="360360" y="1079640"/>
            <a:ext cx="9539280" cy="57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6"/>
          <p:cNvSpPr/>
          <p:nvPr/>
        </p:nvSpPr>
        <p:spPr>
          <a:xfrm>
            <a:off x="360360" y="1596960"/>
            <a:ext cx="936000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lang="fr-CH" sz="2600" spc="-1" strike="noStrike">
                <a:solidFill>
                  <a:srgbClr val="000000"/>
                </a:solidFill>
                <a:latin typeface="Arial"/>
              </a:rPr>
              <a:t>Déterminer C</a:t>
            </a:r>
            <a:r>
              <a:rPr b="1" lang="fr-CH" sz="2600" spc="-1" strike="noStrike" baseline="-33000">
                <a:solidFill>
                  <a:srgbClr val="000000"/>
                </a:solidFill>
                <a:latin typeface="Arial"/>
              </a:rPr>
              <a:t>1</a:t>
            </a:r>
            <a:r>
              <a:rPr b="1" lang="fr-CH" sz="2600" spc="-1" strike="noStrike">
                <a:solidFill>
                  <a:srgbClr val="000000"/>
                </a:solidFill>
                <a:latin typeface="Arial"/>
              </a:rPr>
              <a:t> et C</a:t>
            </a:r>
            <a:r>
              <a:rPr b="1" lang="fr-CH" sz="2600" spc="-1" strike="noStrike" baseline="-33000">
                <a:solidFill>
                  <a:srgbClr val="000000"/>
                </a:solidFill>
                <a:latin typeface="Arial"/>
              </a:rPr>
              <a:t>2 </a:t>
            </a:r>
            <a:r>
              <a:rPr b="1" lang="fr-CH" sz="26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Object 8"/>
              <p:cNvSpPr txBox="1"/>
              <p:nvPr/>
            </p:nvSpPr>
            <p:spPr>
              <a:xfrm>
                <a:off x="708120" y="6480000"/>
                <a:ext cx="8659800" cy="82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ous</m:t>
                    </m:r>
                    <m:r>
                      <m:t xml:space="preserve"> </m:t>
                    </m:r>
                    <m:r>
                      <m:t xml:space="preserve">obtenons</m:t>
                    </m:r>
                    <m:r>
                      <m:t xml:space="preserve"> </m:t>
                    </m:r>
                    <m:r>
                      <m:t xml:space="preserve">ainsi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Ae</m:t>
                        </m:r>
                      </m:e>
                      <m:sup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avec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  <m:r>
                          <m:t xml:space="preserve">0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αλ</m:t>
                        </m:r>
                      </m:den>
                    </m:f>
                    <m:r>
                      <m:t xml:space="preserve"> </m:t>
                    </m:r>
                    <m:r>
                      <m:t xml:space="preserve">et</m:t>
                    </m:r>
                    <m:r>
                      <m:t xml:space="preserve"> </m:t>
                    </m:r>
                    <m:r>
                      <m:t xml:space="preserve">λ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α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04" name="Line 9"/>
          <p:cNvSpPr/>
          <p:nvPr/>
        </p:nvSpPr>
        <p:spPr>
          <a:xfrm>
            <a:off x="4140360" y="5219640"/>
            <a:ext cx="900000" cy="720720"/>
          </a:xfrm>
          <a:prstGeom prst="line">
            <a:avLst/>
          </a:prstGeom>
          <a:ln w="9360">
            <a:solidFill>
              <a:srgbClr val="dc2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Object 7"/>
              <p:cNvSpPr txBox="1"/>
              <p:nvPr/>
            </p:nvSpPr>
            <p:spPr>
              <a:xfrm>
                <a:off x="2952720" y="4788000"/>
                <a:ext cx="29131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ème</m:t>
                        </m:r>
                      </m:sup>
                    </m:sSup>
                    <m:r>
                      <m:t xml:space="preserve">condition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limLow>
                      <m:e>
                        <m:r>
                          <m:t xml:space="preserve">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  <m:lim>
                        <m:func>
                          <m:fName>
                            <m:limLow>
                              <m:e>
                                <m:r>
                                  <m:t xml:space="preserve">lim</m:t>
                                </m:r>
                              </m:e>
                              <m:lim/>
                            </m:limLow>
                          </m:fName>
                          <m:e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 </m:t>
                            </m:r>
                            <m:r>
                              <m:t xml:space="preserve">∞</m:t>
                            </m:r>
                          </m:e>
                        </m:func>
                      </m:lim>
                    </m:limLow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80720" cy="1023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2808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Arial"/>
                <a:ea typeface="Arial"/>
              </a:rPr>
              <a:t>Un cas simple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02920" y="1767960"/>
            <a:ext cx="9070920" cy="537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23040" bIns="50400" anchor="t">
            <a:normAutofit/>
          </a:bodyPr>
          <a:p>
            <a:pPr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1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Résultats obtenus :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90000"/>
              <a:buFont typeface="Wingdings" charset="2"/>
              <a:buChar char="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90000"/>
              <a:buFont typeface="Wingdings" charset="2"/>
              <a:buChar char="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90000"/>
              <a:buFont typeface="Wingdings" charset="2"/>
              <a:buChar char="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90000"/>
              <a:buFont typeface="Wingdings" charset="2"/>
              <a:buChar char="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90000"/>
              <a:buFont typeface="Wingdings" charset="2"/>
              <a:buChar char="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90000"/>
              <a:buFont typeface="Wingdings" charset="2"/>
              <a:buChar char="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Source dans notre problème ??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90000"/>
              <a:buFont typeface="Wingdings" charset="2"/>
              <a:buChar char="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252360" y="5543640"/>
            <a:ext cx="964728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848880"/>
                <a:tab algn="l" pos="10296360"/>
                <a:tab algn="l" pos="107442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Profils réels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                                Profil simulé (A=1, 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=18) 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" descr=""/>
          <p:cNvPicPr/>
          <p:nvPr/>
        </p:nvPicPr>
        <p:blipFill>
          <a:blip r:embed="rId1"/>
          <a:stretch/>
        </p:blipFill>
        <p:spPr>
          <a:xfrm>
            <a:off x="360360" y="2879640"/>
            <a:ext cx="4319640" cy="25560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"/>
          <p:cNvPicPr/>
          <p:nvPr/>
        </p:nvPicPr>
        <p:blipFill>
          <a:blip r:embed="rId2"/>
          <a:stretch/>
        </p:blipFill>
        <p:spPr>
          <a:xfrm>
            <a:off x="5040360" y="2862360"/>
            <a:ext cx="4319640" cy="257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107640"/>
            <a:ext cx="100807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2808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Arial"/>
                <a:ea typeface="Arial"/>
              </a:rPr>
              <a:t>Matlab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502920" y="1767960"/>
            <a:ext cx="9070920" cy="5658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23040" bIns="50400" anchor="t">
            <a:normAutofit/>
          </a:bodyPr>
          <a:p>
            <a:pPr marL="10620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Cas plus compliqués → utilisation de matlab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10620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Fonction pdepe :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106200"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45000"/>
              <a:buFont typeface="Wingdings" charset="2"/>
              <a:buChar char="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Conditions initiales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106200"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45000"/>
              <a:buFont typeface="Wingdings" charset="2"/>
              <a:buChar char="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Conditions au bords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10620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résout les équations sous la forme :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106200"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90000"/>
              <a:buFont typeface="Wingdings" charset="2"/>
              <a:buChar char="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106200"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90000"/>
              <a:buFont typeface="Wingdings" charset="2"/>
              <a:buChar char="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106200"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90000"/>
              <a:buFont typeface="Wingdings" charset="2"/>
              <a:buChar char="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106200"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90000"/>
              <a:buFont typeface="Wingdings" charset="2"/>
              <a:buChar char="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Object 3"/>
              <p:cNvSpPr txBox="1"/>
              <p:nvPr/>
            </p:nvSpPr>
            <p:spPr>
              <a:xfrm>
                <a:off x="900000" y="5543640"/>
                <a:ext cx="73710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</m:d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r>
                              <m:t xml:space="preserve">u</m:t>
                            </m:r>
                            <m:r>
                              <m:t xml:space="preserve">,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</m:e>
                        </m:d>
                      </m:e>
                    </m:d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808360" y="107640"/>
            <a:ext cx="4533840" cy="95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2808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Arial"/>
                <a:ea typeface="Arial"/>
              </a:rPr>
              <a:t>Matlab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23040" bIns="50400" anchor="t">
            <a:normAutofit/>
          </a:bodyPr>
          <a:p>
            <a:pPr marL="449280" indent="-343080"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Un cas plus compliqué :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449280" indent="-343080"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90000"/>
              <a:buFont typeface="Wingdings" charset="2"/>
              <a:buChar char="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449280" indent="-343080"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90000"/>
              <a:buFont typeface="Wingdings" charset="2"/>
              <a:buChar char="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449280" indent="-343080"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45000"/>
              <a:buFont typeface="Wingdings" charset="2"/>
              <a:buChar char="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Source : distribution gaussienne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449280" indent="-343080"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45000"/>
              <a:buFont typeface="Wingdings" charset="2"/>
              <a:buChar char="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Quatre paramètres : α, D, σ et S0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449280" indent="-343080"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45000"/>
              <a:buFont typeface="Wingdings" charset="2"/>
              <a:buChar char="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Sigma doit être faible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449280" indent="-343080"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45000"/>
              <a:buFont typeface="Wingdings" charset="2"/>
              <a:buChar char="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Toujours à l'équilibre : Vdiffusion &gt; Vcroissance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449280" indent="-343080"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90000"/>
              <a:buFont typeface="Wingdings" charset="2"/>
              <a:buChar char="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Object 3"/>
              <p:cNvSpPr txBox="1"/>
              <p:nvPr/>
            </p:nvSpPr>
            <p:spPr>
              <a:xfrm>
                <a:off x="2422440" y="2457360"/>
                <a:ext cx="650412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D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α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178920"/>
            <a:ext cx="10080720" cy="808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2808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Arial"/>
                <a:ea typeface="Arial"/>
              </a:rPr>
              <a:t>Matlab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23040" bIns="50400" anchor="t">
            <a:normAutofit/>
          </a:bodyPr>
          <a:p>
            <a:pPr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  <a:ea typeface="Arial"/>
              </a:rPr>
              <a:t>Résultats obtenus 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pic>
        <p:nvPicPr>
          <p:cNvPr id="319" name="Picture 3" descr=""/>
          <p:cNvPicPr/>
          <p:nvPr/>
        </p:nvPicPr>
        <p:blipFill>
          <a:blip r:embed="rId1"/>
          <a:stretch/>
        </p:blipFill>
        <p:spPr>
          <a:xfrm>
            <a:off x="0" y="2556000"/>
            <a:ext cx="5689440" cy="426708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4"/>
          <p:cNvSpPr/>
          <p:nvPr/>
        </p:nvSpPr>
        <p:spPr>
          <a:xfrm>
            <a:off x="339840" y="6740640"/>
            <a:ext cx="575928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profil simulé (S0 = 1, 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  <a:ea typeface="Arial"/>
              </a:rPr>
              <a:t>σ = 0.001, α = 1*S0, D = 400*S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5580000" y="2879640"/>
            <a:ext cx="4319640" cy="30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8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fr-CH" sz="2600" spc="-1" strike="noStrike" u="sng">
                <a:solidFill>
                  <a:srgbClr val="000000"/>
                </a:solidFill>
                <a:uFillTx/>
                <a:latin typeface="Arial"/>
              </a:rPr>
              <a:t>Remarques 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286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</a:rPr>
              <a:t>Modèle éloigné de la réalité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286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fr-CH" sz="2600" spc="-1" strike="noStrike">
                <a:solidFill>
                  <a:srgbClr val="ff0000"/>
                </a:solidFill>
                <a:latin typeface="Arial"/>
              </a:rPr>
              <a:t>''Cycle de phosphorylation''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95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2808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Arial"/>
                <a:ea typeface="Arial"/>
              </a:rPr>
              <a:t>Le cas compliqué 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03280" y="1908000"/>
            <a:ext cx="9577440" cy="540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23040" bIns="50400" anchor="t">
            <a:normAutofit/>
          </a:bodyPr>
          <a:p>
            <a:pPr marL="10620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6 états de phosphorylation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10620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trop de paramètre à fixer manuellement, version simplifiée :  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10620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2 états de phosphorylation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106200"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45000"/>
              <a:buFont typeface="Wingdings" charset="2"/>
              <a:buChar char="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Même constante de diffusion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106200"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45000"/>
              <a:buFont typeface="Wingdings" charset="2"/>
              <a:buChar char="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Taux de phosphorylation κ constant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10620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équations à résoudre :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106200"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90000"/>
              <a:buFont typeface="Wingdings" charset="2"/>
              <a:buChar char="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10620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10620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Object 3"/>
              <p:cNvSpPr txBox="1"/>
              <p:nvPr/>
            </p:nvSpPr>
            <p:spPr>
              <a:xfrm>
                <a:off x="1511280" y="6012000"/>
                <a:ext cx="406260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D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'</m:t>
                    </m:r>
                    <m:r>
                      <m:t xml:space="preserve">'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κ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Object 4"/>
              <p:cNvSpPr txBox="1"/>
              <p:nvPr/>
            </p:nvSpPr>
            <p:spPr>
              <a:xfrm>
                <a:off x="1511280" y="6659640"/>
                <a:ext cx="433224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D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'</m:t>
                    </m:r>
                    <m:r>
                      <m:t xml:space="preserve">'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α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κ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0" y="25560"/>
            <a:ext cx="10080720" cy="1017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Arial"/>
                <a:ea typeface="Arial"/>
              </a:rPr>
              <a:t>Résultats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327" name="Image 4" descr="plotk4.png"/>
          <p:cNvPicPr/>
          <p:nvPr/>
        </p:nvPicPr>
        <p:blipFill>
          <a:blip r:embed="rId1"/>
          <a:stretch/>
        </p:blipFill>
        <p:spPr>
          <a:xfrm>
            <a:off x="1224000" y="1619280"/>
            <a:ext cx="7200720" cy="540072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6"/>
          <p:cNvSpPr/>
          <p:nvPr/>
        </p:nvSpPr>
        <p:spPr>
          <a:xfrm>
            <a:off x="0" y="6948360"/>
            <a:ext cx="100807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fil simulé: S0= 1, Sigma= 0.01 , D=200*S0 , Kappa= 4*S0 , Alpha= 1*S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Image 3" descr="plotk4.png"/>
          <p:cNvPicPr/>
          <p:nvPr/>
        </p:nvPicPr>
        <p:blipFill>
          <a:blip r:embed="rId2"/>
          <a:stretch/>
        </p:blipFill>
        <p:spPr>
          <a:xfrm>
            <a:off x="0" y="0"/>
            <a:ext cx="5040360" cy="3780000"/>
          </a:xfrm>
          <a:prstGeom prst="rect">
            <a:avLst/>
          </a:prstGeom>
          <a:ln w="0">
            <a:noFill/>
          </a:ln>
        </p:spPr>
      </p:pic>
      <p:pic>
        <p:nvPicPr>
          <p:cNvPr id="330" name="Image 4" descr="plotk43.png"/>
          <p:cNvPicPr/>
          <p:nvPr/>
        </p:nvPicPr>
        <p:blipFill>
          <a:blip r:embed="rId3"/>
          <a:stretch/>
        </p:blipFill>
        <p:spPr>
          <a:xfrm>
            <a:off x="4896000" y="0"/>
            <a:ext cx="5040000" cy="3780000"/>
          </a:xfrm>
          <a:prstGeom prst="rect">
            <a:avLst/>
          </a:prstGeom>
          <a:ln w="0">
            <a:noFill/>
          </a:ln>
        </p:spPr>
      </p:pic>
      <p:pic>
        <p:nvPicPr>
          <p:cNvPr id="331" name="Image 5" descr="kapa2.png"/>
          <p:cNvPicPr/>
          <p:nvPr/>
        </p:nvPicPr>
        <p:blipFill>
          <a:blip r:embed="rId4"/>
          <a:stretch/>
        </p:blipFill>
        <p:spPr>
          <a:xfrm>
            <a:off x="19080" y="3765600"/>
            <a:ext cx="5040360" cy="3779640"/>
          </a:xfrm>
          <a:prstGeom prst="rect">
            <a:avLst/>
          </a:prstGeom>
          <a:ln w="0">
            <a:noFill/>
          </a:ln>
        </p:spPr>
      </p:pic>
      <p:sp>
        <p:nvSpPr>
          <p:cNvPr id="332" name="ZoneTexte 15"/>
          <p:cNvSpPr/>
          <p:nvPr/>
        </p:nvSpPr>
        <p:spPr>
          <a:xfrm>
            <a:off x="5688000" y="5003640"/>
            <a:ext cx="360036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Bleu = M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Rouge = M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Noir = M1 + M0 = Mto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Cadre 16" descr=""/>
          <p:cNvPicPr/>
          <p:nvPr/>
        </p:nvPicPr>
        <p:blipFill>
          <a:blip r:embed="rId5"/>
          <a:stretch/>
        </p:blipFill>
        <p:spPr>
          <a:xfrm>
            <a:off x="5095800" y="4522680"/>
            <a:ext cx="4627800" cy="2116080"/>
          </a:xfrm>
          <a:prstGeom prst="rect">
            <a:avLst/>
          </a:prstGeom>
          <a:ln w="0">
            <a:noFill/>
          </a:ln>
        </p:spPr>
      </p:pic>
      <p:sp>
        <p:nvSpPr>
          <p:cNvPr id="334" name="ZoneTexte 17"/>
          <p:cNvSpPr/>
          <p:nvPr/>
        </p:nvSpPr>
        <p:spPr>
          <a:xfrm>
            <a:off x="5256360" y="6875640"/>
            <a:ext cx="43210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fr-CH" sz="2600" spc="-1" strike="noStrike">
                <a:solidFill>
                  <a:srgbClr val="ff0000"/>
                </a:solidFill>
                <a:latin typeface="Arial"/>
                <a:ea typeface="Arial"/>
              </a:rPr>
              <a:t>→</a:t>
            </a:r>
            <a:r>
              <a:rPr b="0" lang="fr-FR" sz="2600" spc="-1" strike="noStrike">
                <a:solidFill>
                  <a:srgbClr val="ff0000"/>
                </a:solidFill>
                <a:latin typeface="Arial"/>
              </a:rPr>
              <a:t>Mtot ne varie pas !!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-36360"/>
            <a:ext cx="1008072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alisto MT"/>
              </a:rPr>
              <a:t>Conclusion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816120" y="3052800"/>
            <a:ext cx="8447040" cy="360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2200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sto MT"/>
              </a:rPr>
              <a:t>Extraction des données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marL="378000" indent="-378000">
              <a:spcBef>
                <a:spcPts val="22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marL="378000" indent="-378000">
              <a:spcBef>
                <a:spcPts val="2200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sto MT"/>
              </a:rPr>
              <a:t>Test et amélioration du Plugin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marL="378000" indent="-378000">
              <a:spcBef>
                <a:spcPts val="2200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marL="378000" indent="-378000">
              <a:spcBef>
                <a:spcPts val="2200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sto MT"/>
              </a:rPr>
              <a:t>Apprentissage modélisation mathématique et résolution 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marL="378000" indent="-378000">
              <a:spcBef>
                <a:spcPts val="2200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marL="378000" indent="-378000">
              <a:spcBef>
                <a:spcPts val="22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marL="378000" indent="-378000">
              <a:spcBef>
                <a:spcPts val="2200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"/>
          <p:cNvPicPr/>
          <p:nvPr/>
        </p:nvPicPr>
        <p:blipFill>
          <a:blip r:embed="rId1"/>
          <a:srcRect l="0" t="3977" r="0" b="3977"/>
          <a:stretch/>
        </p:blipFill>
        <p:spPr>
          <a:xfrm>
            <a:off x="25560" y="1908000"/>
            <a:ext cx="5233680" cy="22323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"/>
          <p:cNvPicPr/>
          <p:nvPr/>
        </p:nvPicPr>
        <p:blipFill>
          <a:blip r:embed="rId2"/>
          <a:stretch/>
        </p:blipFill>
        <p:spPr>
          <a:xfrm>
            <a:off x="5688000" y="3995640"/>
            <a:ext cx="4363920" cy="316872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5"/>
          <p:cNvSpPr/>
          <p:nvPr/>
        </p:nvSpPr>
        <p:spPr>
          <a:xfrm>
            <a:off x="5111640" y="1692360"/>
            <a:ext cx="511344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000">
              <a:lnSpc>
                <a:spcPct val="9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Contrôle de l’entrée en mitose de la lev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9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9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Pom1 forme un gradient de concentration sur la membr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216000" y="4788000"/>
            <a:ext cx="50385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000">
              <a:lnSpc>
                <a:spcPct val="9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Inhibition de Cdr2 par Pom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9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9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Autophosphorylations induisent un détachement de la proté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9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9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Etablissement d’un cyc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ZoneTexte 7"/>
          <p:cNvSpPr/>
          <p:nvPr/>
        </p:nvSpPr>
        <p:spPr>
          <a:xfrm>
            <a:off x="0" y="250920"/>
            <a:ext cx="1008072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Arial"/>
                <a:ea typeface="Arial"/>
              </a:rPr>
              <a:t>Contex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ZoneTexte 9"/>
          <p:cNvSpPr/>
          <p:nvPr/>
        </p:nvSpPr>
        <p:spPr>
          <a:xfrm>
            <a:off x="5977080" y="7164360"/>
            <a:ext cx="38876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SG Matin &amp; M Berthelot-Gorsjean </a:t>
            </a:r>
            <a:r>
              <a:rPr b="0" i="1" lang="fr-CH" sz="1200" spc="-1" strike="noStrike">
                <a:solidFill>
                  <a:srgbClr val="000000"/>
                </a:solidFill>
                <a:latin typeface="Arial"/>
              </a:rPr>
              <a:t>Nature</a:t>
            </a: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 459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ZoneTexte 10"/>
          <p:cNvSpPr/>
          <p:nvPr/>
        </p:nvSpPr>
        <p:spPr>
          <a:xfrm>
            <a:off x="216000" y="4140360"/>
            <a:ext cx="51116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Olivier Hachet &amp; al. </a:t>
            </a:r>
            <a:r>
              <a:rPr b="0" i="1" lang="fr-CH" sz="1200" spc="-1" strike="noStrike">
                <a:solidFill>
                  <a:srgbClr val="000000"/>
                </a:solidFill>
                <a:latin typeface="Arial"/>
              </a:rPr>
              <a:t>Cell</a:t>
            </a: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 145 (201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80720" cy="719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2808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Arial"/>
                <a:ea typeface="Arial"/>
              </a:rPr>
              <a:t>Perspective: une réalité très complexe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23040" bIns="50400" anchor="t">
            <a:normAutofit/>
          </a:bodyPr>
          <a:p>
            <a:pPr marL="431640" indent="-323640"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Constantes de phosphorylation et diffusion égales ?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431640" indent="-323640"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Mécanismes de diffusion différents au deux extrémités?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</p:txBody>
      </p:sp>
      <p:pic>
        <p:nvPicPr>
          <p:cNvPr id="339" name="Picture 3" descr=""/>
          <p:cNvPicPr/>
          <p:nvPr/>
        </p:nvPicPr>
        <p:blipFill>
          <a:blip r:embed="rId1"/>
          <a:stretch/>
        </p:blipFill>
        <p:spPr>
          <a:xfrm>
            <a:off x="720720" y="3419640"/>
            <a:ext cx="5040360" cy="309240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4"/>
          <p:cNvSpPr/>
          <p:nvPr/>
        </p:nvSpPr>
        <p:spPr>
          <a:xfrm>
            <a:off x="5940360" y="4500720"/>
            <a:ext cx="3240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S0 et décroissance fa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5"/>
          <p:cNvSpPr/>
          <p:nvPr/>
        </p:nvSpPr>
        <p:spPr>
          <a:xfrm flipH="1">
            <a:off x="2338560" y="3419640"/>
            <a:ext cx="1263600" cy="179280"/>
          </a:xfrm>
          <a:prstGeom prst="line">
            <a:avLst/>
          </a:prstGeom>
          <a:ln w="9360">
            <a:solidFill>
              <a:srgbClr val="dc2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3600360" y="3240000"/>
            <a:ext cx="28796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S0 et décroissance élev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7"/>
          <p:cNvSpPr/>
          <p:nvPr/>
        </p:nvSpPr>
        <p:spPr>
          <a:xfrm flipH="1">
            <a:off x="4677840" y="4680000"/>
            <a:ext cx="1263960" cy="179280"/>
          </a:xfrm>
          <a:prstGeom prst="line">
            <a:avLst/>
          </a:prstGeom>
          <a:ln w="9360">
            <a:solidFill>
              <a:srgbClr val="dc2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8"/>
          <p:cNvSpPr/>
          <p:nvPr/>
        </p:nvSpPr>
        <p:spPr>
          <a:xfrm>
            <a:off x="539640" y="6740640"/>
            <a:ext cx="93600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fr-CH" sz="2200" spc="-1" strike="noStrike">
                <a:solidFill>
                  <a:srgbClr val="000000"/>
                </a:solidFill>
                <a:latin typeface="Arial"/>
                <a:ea typeface="Arial"/>
              </a:rPr>
              <a:t>Système de buffering : n</a:t>
            </a: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otre modèle ne permet pas d'expliquer cela !!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33480"/>
            <a:ext cx="10080720" cy="86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  <a:ea typeface="Arial"/>
              </a:rPr>
              <a:t>Feedback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791640" y="1619280"/>
            <a:ext cx="8447400" cy="5184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Points Forts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Recherche actuelle, inconnu, pratique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Utilisation de nouveaux outils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Difficultés 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Assimilation des langages utilisés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Wiki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75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  <a:ea typeface="Arial"/>
              </a:rPr>
              <a:t>Remerciements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31280" y="1618920"/>
            <a:ext cx="936180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  <a:ea typeface="Arial"/>
              </a:rPr>
              <a:t>Nous voulons adresser nos remerciements pour l’attention, l’aide et les conseils prodigués à: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Arial"/>
                <a:ea typeface="Arial"/>
              </a:rPr>
              <a:t>Sascha Dalessi</a:t>
            </a:r>
            <a:endParaRPr b="0" lang="en-US" sz="3300" spc="-1" strike="noStrike">
              <a:solidFill>
                <a:srgbClr val="595959"/>
              </a:solidFill>
              <a:latin typeface="Calisto MT"/>
            </a:endParaRPr>
          </a:p>
          <a:p>
            <a:pPr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Arial"/>
                <a:ea typeface="Arial"/>
              </a:rPr>
              <a:t>Micha Hersch</a:t>
            </a:r>
            <a:endParaRPr b="0" lang="en-US" sz="3300" spc="-1" strike="noStrike">
              <a:solidFill>
                <a:srgbClr val="595959"/>
              </a:solidFill>
              <a:latin typeface="Calisto MT"/>
            </a:endParaRPr>
          </a:p>
          <a:p>
            <a:pPr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Arial"/>
                <a:ea typeface="Arial"/>
              </a:rPr>
              <a:t>Olivier Hachet</a:t>
            </a:r>
            <a:endParaRPr b="0" lang="en-US" sz="3300" spc="-1" strike="noStrike">
              <a:solidFill>
                <a:srgbClr val="595959"/>
              </a:solidFill>
              <a:latin typeface="Calisto MT"/>
            </a:endParaRPr>
          </a:p>
          <a:p>
            <a:pPr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Arial"/>
                <a:ea typeface="Arial"/>
              </a:rPr>
              <a:t>Sven Bergmann</a:t>
            </a:r>
            <a:endParaRPr b="0" lang="en-US" sz="3300" spc="-1" strike="noStrike">
              <a:solidFill>
                <a:srgbClr val="595959"/>
              </a:solidFill>
              <a:latin typeface="Calisto MT"/>
            </a:endParaRPr>
          </a:p>
          <a:p>
            <a:pPr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90000"/>
              <a:buFont typeface="Wingdings" charset="2"/>
              <a:buChar char="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3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108000"/>
            <a:ext cx="10080720" cy="79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2808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Arial"/>
                <a:ea typeface="Arial"/>
              </a:rPr>
              <a:t>Buts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502920" y="255420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30200" indent="-322200"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45000"/>
              <a:buFont typeface="Wingdings" charset="2"/>
              <a:buChar char="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Modélisation du gradient de diffusion Pom1 à l’aide d’équations différentielles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430200" indent="-32220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430200" indent="-322200"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45000"/>
              <a:buFont typeface="Wingdings" charset="2"/>
              <a:buChar char="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Utilisation d'outils informatiques et mathématiques (mathematica, matlab, imageJ)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920" y="30240"/>
            <a:ext cx="10080720" cy="72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Arial"/>
                <a:ea typeface="Arial"/>
              </a:rPr>
              <a:t>Méthode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76000" y="2195280"/>
            <a:ext cx="9070920" cy="498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514440" indent="-514440"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Extraction de données ( quantification d’images )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514440" indent="-514440"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Comparaison des profils main-plugin avec mathematica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514440" indent="-514440"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Cas simple de diffusion avec mathematica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514440" indent="-514440"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Équation de diffusion comprenant la source avec matlab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514440" indent="-514440"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Modèle final avec deux états de phopsphorylation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80720" cy="1093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  <a:ea typeface="Arial"/>
              </a:rPr>
              <a:t>Validation Plugin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272" name="Picture 3" descr=""/>
          <p:cNvPicPr/>
          <p:nvPr/>
        </p:nvPicPr>
        <p:blipFill>
          <a:blip r:embed="rId1"/>
          <a:srcRect l="0" t="7830" r="0" b="7830"/>
          <a:stretch/>
        </p:blipFill>
        <p:spPr>
          <a:xfrm>
            <a:off x="216000" y="1763640"/>
            <a:ext cx="9793080" cy="4176720"/>
          </a:xfrm>
          <a:prstGeom prst="rect">
            <a:avLst/>
          </a:prstGeom>
          <a:ln w="0">
            <a:noFill/>
          </a:ln>
        </p:spPr>
      </p:pic>
      <p:sp>
        <p:nvSpPr>
          <p:cNvPr id="273" name="ZoneTexte 8"/>
          <p:cNvSpPr/>
          <p:nvPr/>
        </p:nvSpPr>
        <p:spPr>
          <a:xfrm>
            <a:off x="0" y="6227640"/>
            <a:ext cx="10080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Cellophane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  <a:ea typeface="Arial"/>
              </a:rPr>
              <a:t>Validation Plugin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275" name="Espace réservé du contenu 3" descr="Cello-2.PNG"/>
          <p:cNvPicPr/>
          <p:nvPr/>
        </p:nvPicPr>
        <p:blipFill>
          <a:blip r:embed="rId1"/>
          <a:srcRect l="0" t="6358" r="0" b="6358"/>
          <a:stretch/>
        </p:blipFill>
        <p:spPr>
          <a:xfrm>
            <a:off x="216000" y="1692360"/>
            <a:ext cx="9624960" cy="4103640"/>
          </a:xfrm>
          <a:prstGeom prst="rect">
            <a:avLst/>
          </a:prstGeom>
          <a:ln w="0">
            <a:noFill/>
          </a:ln>
        </p:spPr>
      </p:pic>
      <p:sp>
        <p:nvSpPr>
          <p:cNvPr id="276" name="ZoneTexte 4"/>
          <p:cNvSpPr/>
          <p:nvPr/>
        </p:nvSpPr>
        <p:spPr>
          <a:xfrm>
            <a:off x="0" y="6227640"/>
            <a:ext cx="10080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Cellophane 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  <a:ea typeface="Arial"/>
              </a:rPr>
              <a:t>Validation Plugin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278" name="Image 8" descr="Cello3.png"/>
          <p:cNvPicPr/>
          <p:nvPr/>
        </p:nvPicPr>
        <p:blipFill>
          <a:blip r:embed="rId1"/>
          <a:stretch/>
        </p:blipFill>
        <p:spPr>
          <a:xfrm>
            <a:off x="936720" y="1692360"/>
            <a:ext cx="8064360" cy="4948200"/>
          </a:xfrm>
          <a:prstGeom prst="rect">
            <a:avLst/>
          </a:prstGeom>
          <a:ln w="0">
            <a:noFill/>
          </a:ln>
        </p:spPr>
      </p:pic>
      <p:sp>
        <p:nvSpPr>
          <p:cNvPr id="279" name="ZoneTexte 9"/>
          <p:cNvSpPr/>
          <p:nvPr/>
        </p:nvSpPr>
        <p:spPr>
          <a:xfrm>
            <a:off x="0" y="6875640"/>
            <a:ext cx="10080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Cellophane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12600"/>
            <a:ext cx="10080720" cy="88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2808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Arial"/>
                <a:ea typeface="Arial"/>
              </a:rPr>
              <a:t>Équation de diffusion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60000" y="1547640"/>
            <a:ext cx="9070920" cy="877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23040" bIns="50400" anchor="t">
            <a:normAutofit/>
          </a:bodyPr>
          <a:p>
            <a:pPr marL="10620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Comment décrire la formation du gradient ?    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106200"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45000"/>
              <a:buFont typeface="Wingdings" charset="2"/>
              <a:buChar char="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Diffusion pure :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10620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Flux de molécules:  </a:t>
            </a: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106200"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45000"/>
              <a:buFont typeface="Wingdings" charset="2"/>
              <a:buChar char="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Dégradation des molécules: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106200"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45000"/>
              <a:buFont typeface="Wingdings" charset="2"/>
              <a:buChar char="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Source de production : 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10620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équation de diffusion :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10620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10620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Arial"/>
              </a:rPr>
              <a:t>Équation différentielle partielle (PDE)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106200"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90000"/>
              <a:buFont typeface="Wingdings" charset="2"/>
              <a:buChar char="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106200"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90000"/>
              <a:buFont typeface="Wingdings" charset="2"/>
              <a:buChar char="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106200"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90000"/>
              <a:buFont typeface="Wingdings" charset="2"/>
              <a:buChar char="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106200"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90000"/>
              <a:buFont typeface="Wingdings" charset="2"/>
              <a:buChar char="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106200"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90000"/>
              <a:buFont typeface="Wingdings" charset="2"/>
              <a:buChar char="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106200">
              <a:lnSpc>
                <a:spcPct val="100000"/>
              </a:lnSpc>
              <a:spcBef>
                <a:spcPts val="2200"/>
              </a:spcBef>
              <a:buClr>
                <a:srgbClr val="4f81bd"/>
              </a:buClr>
              <a:buSzPct val="90000"/>
              <a:buFont typeface="Wingdings" charset="2"/>
              <a:buChar char="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Object 3"/>
              <p:cNvSpPr txBox="1"/>
              <p:nvPr/>
            </p:nvSpPr>
            <p:spPr>
              <a:xfrm>
                <a:off x="3960720" y="2895480"/>
                <a:ext cx="47530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D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 </m:t>
                    </m:r>
                    <m:r>
                      <m:t xml:space="preserve">première</m:t>
                    </m:r>
                    <m:r>
                      <m:t xml:space="preserve">loi</m:t>
                    </m:r>
                    <m:r>
                      <m:t xml:space="preserve">de</m:t>
                    </m:r>
                    <m:r>
                      <m:t xml:space="preserve">Fic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4"/>
              <p:cNvSpPr txBox="1"/>
              <p:nvPr/>
            </p:nvSpPr>
            <p:spPr>
              <a:xfrm>
                <a:off x="4535640" y="4356000"/>
                <a:ext cx="792000" cy="2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5"/>
              <p:cNvSpPr txBox="1"/>
              <p:nvPr/>
            </p:nvSpPr>
            <p:spPr>
              <a:xfrm>
                <a:off x="5184720" y="3708360"/>
                <a:ext cx="124776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α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7"/>
              <p:cNvSpPr txBox="1"/>
              <p:nvPr/>
            </p:nvSpPr>
            <p:spPr>
              <a:xfrm>
                <a:off x="4535640" y="4859280"/>
                <a:ext cx="523548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J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 </m:t>
                    </m:r>
                    <m:r>
                      <m:t xml:space="preserve">car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si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J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8"/>
              <p:cNvSpPr txBox="1"/>
              <p:nvPr/>
            </p:nvSpPr>
            <p:spPr>
              <a:xfrm>
                <a:off x="6985080" y="1547640"/>
                <a:ext cx="161748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6"/>
              <p:cNvSpPr txBox="1"/>
              <p:nvPr/>
            </p:nvSpPr>
            <p:spPr>
              <a:xfrm>
                <a:off x="3240000" y="2195640"/>
                <a:ext cx="551664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J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 </m:t>
                    </m:r>
                    <m:r>
                      <m:t xml:space="preserve">si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J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alors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80720" cy="90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2808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8160"/>
                <a:tab algn="l" pos="8682120"/>
                <a:tab algn="l" pos="9058320"/>
                <a:tab algn="l" pos="1006488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Arial"/>
                <a:ea typeface="Arial"/>
              </a:rPr>
              <a:t>Équation de diffusion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1440000" y="2433600"/>
            <a:ext cx="7199280" cy="433404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3"/>
          <p:cNvSpPr/>
          <p:nvPr/>
        </p:nvSpPr>
        <p:spPr>
          <a:xfrm>
            <a:off x="503280" y="125892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</a:rPr>
              <a:t>État d'équilibre (steady state) 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7:44:27Z</dcterms:created>
  <dc:creator/>
  <dc:description/>
  <dc:language>en-US</dc:language>
  <cp:lastModifiedBy>Johan Merçay</cp:lastModifiedBy>
  <dcterms:modified xsi:type="dcterms:W3CDTF">2012-05-31T19:49:51Z</dcterms:modified>
  <cp:revision>120</cp:revision>
  <dc:subject/>
  <dc:title>Solving Biological Problems that require Math Gradient Formation for the Cell Size in Fission Yeast  </dc:title>
</cp:coreProperties>
</file>